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549-D6C3-469B-8CF8-377A6C89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1B0-E276-4E0D-80B2-5230A34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3C6-2775-4952-86FC-BE39F5B0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AA0-B8CE-42D8-A0BB-4F19D8D5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D80-09C3-425C-BD1F-A98C01C5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72E-8868-4FB0-A23C-5BBEB50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E6FB-4CB2-4F5B-A779-8C9DBD32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918-0577-4638-83D9-9269728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79C-65AD-4E12-9FE7-18FEE6E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F54F-2161-431A-9B64-E51FD005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B3F-818C-42E2-B36D-462E2A4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F68-B586-4C55-A7F7-BF2D17E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E711-6936-48E5-A470-F946FDF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E2A5-AD63-4849-BCD1-D4BBD9B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258C-A898-4CC9-B43E-BF25720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EA4-6DEF-457F-8BEE-778BEF34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2FB9-41EF-4FC1-85C1-7B7DDF32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9D7-6361-4E1E-98ED-5D9C630B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4A1-9605-4500-82B8-471DEC9B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D62-1280-42BA-B13F-3E1C3C5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8B3-49A5-406F-BEA6-444B5CA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B87-6515-462E-8FA3-27F178B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60A-1637-4EE6-B61A-D49ADBC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D06-7319-4E21-B7E9-AF88201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FBF-C241-4721-A30E-14090DCBD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ED97-EE85-43E5-AB5F-096EB095C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hockeyliquidation.com/images/field_hockey_players.jpg&amp;imgrefurl=http://hockeyliquidation.com/&amp;usg=__wG3wB8oM5dOf84gdZ1KIyfOgzxY=&amp;h=360&amp;w=398&amp;sz=138&amp;hl=en&amp;start=4&amp;tbnid=qdQoJOgMspXaaM:&amp;tbnh=112&amp;tbnw=124&amp;prev=/images%3Fq%3Dfield%2Bhockey%2Bplayer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newsimg.bbc.co.uk/media/images/42081000/jpg/_42081344_hockey_416_300.jpg&amp;imgrefurl=http://news.bbc.co.uk/sport2/hi/photo_galleries/photos_of_the_day/5341334.stm&amp;usg=__Rq4ITqjZRne4XTvf8bYP2O8AKIU=&amp;h=300&amp;w=416&amp;sz=25&amp;hl=en&amp;start=12&amp;tbnid=9HK7NMq4Wyrf1M:&amp;tbnh=90&amp;tbnw=125&amp;prev=/images%3Fq%3Dfield%2Bhockey%2Bplayers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Comic Sans MS"/>
              </a:rPr>
              <a:t>Preparation Of The Body for hocke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653000"/>
            <a:ext cx="287964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860640"/>
            <a:ext cx="3313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CRE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So that you have the ability to run at a variety of speeds for the duration of the game (70 mi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provide support in defence and attack for the duration of the g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keep up with play for the duration of the game and not be caught out of posi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have the ability to move at high intensities when required even towards the end of a g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he longer a player can perform using aerobic pathways, the longer they can perform without the negative affects of fatigu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Comic Sans MS"/>
              </a:rPr>
              <a:t>Which test is used to measure how good an individuals CRE i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MULTI-STAGE FITNES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tarte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me the four parts to the CYCLE OF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Name the 3 TYPES of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me the 6 aspects of physical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Which 2 aspects are most important to hock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fine these 2 aspects of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Which standardised tests are used to measure these 2 aspects of fitn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SP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peed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i="1" lang="en-GB" sz="32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he ability to cover a distance in a short period of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SPEED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It is vital to have speed when tracking back to defend in order to get into position ahead of the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It is vital to have speed when supporting the attack in order to get into position ahead of the def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Wide midfielders must have pace to drive down the line and beat their opponent either with the ball or to get into space to receive the b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Comic Sans MS"/>
              </a:rPr>
              <a:t>Which test is used to measure how fast an individual i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35 metre s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kill related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acti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-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AG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ility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The ability to move the body quickly and precisely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agility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be able to dribble the ball around defe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receive a pass effec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block/intercept/save sho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get into position for 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react to the changes in possession as defence turns into attack and vice 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at test is used to measure how agile an individual i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agility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YCLE OF ANALY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2133720"/>
            <a:ext cx="252072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573360"/>
            <a:ext cx="201636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5157720"/>
            <a:ext cx="201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645000"/>
            <a:ext cx="20894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ntal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term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motiv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ivation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What drives a performer to improve and succeed.”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motivation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in poor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when t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when practice is repet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Exam 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om an activity of your choice, select th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w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ain aspects of fitness in that activity and explain wh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ac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s important 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ou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erformance.  (4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tarte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tario comeback – ’09 gold medal – field hockey nat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atch the video of the hockey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 2 situations w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ayer used speed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ayer used agility w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Methods of Gathering Informa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ethods of gathering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here are 2 types of testing we will use to assess perform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Standardise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Match Analysis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andardised T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0 metre shuttle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5 metre sprin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agility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andardised t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ndardised fitness test have a set structu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is means that whoever is carrying them out and wherever they are testing the test must follow exactly the same protocol and procedures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is is vital to ensure the validity and reliability of the test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Task 1 –  Describing Standardised Test Protoc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ick 1 test and describe how you would carry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 as specific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e diagrams to support your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r answer will be mark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eparation of The Body (POB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at does POB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ink about words such 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reparing for (competition, new sea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atch analysis schedu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udies fitness levels whilst participating in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scribe, in detail, how the match analysis is filled out. E.g. describe its protoc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are methods appropria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each fitness test measures is specific to the aspect you want to mea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20 metre shuttle run measures CRE as you have to run constantly for a long period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5 metre sprint test measures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Match analysis schedule measures speed and CRE in a game by determining the level of intensity you are working at throughout a whole mat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this is appropria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li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s a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ermanent rec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Factu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rovide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l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 can b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epea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using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am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preting d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es the data tell you about the performer that has been analy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Not just describing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and discuss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00000" y="189000"/>
          <a:ext cx="7489800" cy="6438960"/>
        </p:xfrm>
        <a:graphic>
          <a:graphicData uri="http://schemas.openxmlformats.org/drawingml/2006/table">
            <a:tbl>
              <a:tblPr/>
              <a:tblGrid>
                <a:gridCol w="1898640"/>
                <a:gridCol w="1781280"/>
                <a:gridCol w="1903320"/>
                <a:gridCol w="190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 Stage Fitness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metre spri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llinois agility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aran Gallag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erce Houlih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 Kid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hen Lav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cob Leis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am Linds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tin McGu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aran McAte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ny McBe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lan McGallag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McIlw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ddy McIn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 McKeow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e McKeow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eran Mull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 Oswa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 Rud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or Scot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an Tom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YCLE OF ANALY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2133720"/>
            <a:ext cx="252072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573360"/>
            <a:ext cx="201636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157720"/>
            <a:ext cx="201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3645000"/>
            <a:ext cx="20894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thod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mprove a SPECIFIC aspect of fitness (e.g. CRE), you must carry out a SPECIFIC type of training (e.g. Fartlek Traini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the Method of Training selected is not appropriate for the aspect of fitness, then no improvements will b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thod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Cardio-Respiratory Endurance use Fartlek Training and Continuous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Speed use Interval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Fartlek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METHOD OF TRAINING used to develop your 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s developed in Sweden and translates to ‘speed pla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volves working at a variety of paces (walking, jogging. ¾ pace, sprinting) or over varied terrain (hills etc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s SPECIFIC to hockey as when playing hockey you are required to use various means of trav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val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d to improve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rval training involves periods of exercise which is broken up by periods of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rval training is based on work:rest ratios.  To improve Speed, you must rest for longer than you are working for, and a 1:4 ratio is normally folllow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3 TYPE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kill – 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val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1905120"/>
          <a:ext cx="8007120" cy="4190400"/>
        </p:xfrm>
        <a:graphic>
          <a:graphicData uri="http://schemas.openxmlformats.org/drawingml/2006/table">
            <a:tbl>
              <a:tblPr/>
              <a:tblGrid>
                <a:gridCol w="2001960"/>
                <a:gridCol w="2001600"/>
                <a:gridCol w="2001600"/>
                <a:gridCol w="20019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ti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ver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inciple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pecif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v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ns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ver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Training Program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e make SPECIFIC to hockey as we are trying to improve our individual performance in this activity through improving our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ECIFIC to HOCKEY as in hockey you are required to change your speed form walking pace up to sprinting, and FARTLEK training does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ECIFIC to HOCKEY as you are including small sided games of hockey in each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0880" y="1676520"/>
            <a:ext cx="8457840" cy="4960800"/>
            <a:chOff x="380880" y="1676520"/>
            <a:chExt cx="8457840" cy="4960800"/>
          </a:xfrm>
        </p:grpSpPr>
        <p:grpSp>
          <p:nvGrpSpPr>
            <p:cNvPr id="193" name=""/>
            <p:cNvGrpSpPr/>
            <p:nvPr/>
          </p:nvGrpSpPr>
          <p:grpSpPr>
            <a:xfrm>
              <a:off x="387360" y="1680120"/>
              <a:ext cx="8443800" cy="4953240"/>
              <a:chOff x="387360" y="1680120"/>
              <a:chExt cx="8443800" cy="49532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87360" y="1680120"/>
                <a:ext cx="784440" cy="424440"/>
                <a:chOff x="387360" y="1680120"/>
                <a:chExt cx="784440" cy="424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4200" y="1680120"/>
                  <a:ext cx="5907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87360" y="1680120"/>
                  <a:ext cx="78444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172160" y="1680120"/>
                <a:ext cx="2722680" cy="424440"/>
                <a:chOff x="1172160" y="1680120"/>
                <a:chExt cx="2722680" cy="42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69000" y="1680120"/>
                  <a:ext cx="25293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172160" y="1680120"/>
                  <a:ext cx="272268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895200" y="1680120"/>
                <a:ext cx="2183040" cy="424440"/>
                <a:chOff x="3895200" y="1680120"/>
                <a:chExt cx="2183040" cy="4244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92040" y="1680120"/>
                  <a:ext cx="19893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95200" y="1680120"/>
                  <a:ext cx="218304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078960" y="1680120"/>
                <a:ext cx="1375920" cy="424440"/>
                <a:chOff x="6078960" y="1680120"/>
                <a:chExt cx="1375920" cy="424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175800" y="1680120"/>
                  <a:ext cx="118224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078960" y="1680120"/>
                  <a:ext cx="137592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455240" y="1680120"/>
                <a:ext cx="1375920" cy="424440"/>
                <a:chOff x="7455240" y="1680120"/>
                <a:chExt cx="1375920" cy="4244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551360" y="1680120"/>
                  <a:ext cx="118260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4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55240" y="1680120"/>
                  <a:ext cx="137592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7360" y="2104560"/>
                <a:ext cx="784440" cy="990000"/>
                <a:chOff x="387360" y="2104560"/>
                <a:chExt cx="784440" cy="990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84200" y="2104560"/>
                  <a:ext cx="5907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87360" y="2104560"/>
                  <a:ext cx="78444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172160" y="2104560"/>
                <a:ext cx="2722680" cy="990000"/>
                <a:chOff x="1172160" y="2104560"/>
                <a:chExt cx="2722680" cy="990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269000" y="2104560"/>
                  <a:ext cx="25293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arm U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0 minutes continuous running at 70-80%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mall sided gam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Cool dow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172160" y="2104560"/>
                  <a:ext cx="272268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95200" y="2104560"/>
                <a:ext cx="2183040" cy="990000"/>
                <a:chOff x="3895200" y="2104560"/>
                <a:chExt cx="2183040" cy="990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992040" y="2104560"/>
                  <a:ext cx="19893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arm U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0 minute fartlek sess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mall sided gam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Cool dow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95200" y="2104560"/>
                  <a:ext cx="218304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6078960" y="2104560"/>
                <a:ext cx="1375920" cy="990000"/>
                <a:chOff x="6078960" y="2104560"/>
                <a:chExt cx="1375920" cy="990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175800" y="2104560"/>
                  <a:ext cx="118224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078960" y="2104560"/>
                  <a:ext cx="137592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455240" y="2104560"/>
                <a:ext cx="1375920" cy="990000"/>
                <a:chOff x="7455240" y="2104560"/>
                <a:chExt cx="1375920" cy="990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551360" y="2104560"/>
                  <a:ext cx="118260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55240" y="2104560"/>
                  <a:ext cx="137592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7360" y="3094920"/>
                <a:ext cx="784440" cy="636840"/>
                <a:chOff x="387360" y="3094920"/>
                <a:chExt cx="784440" cy="636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84200" y="309492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7360" y="309492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172160" y="3094920"/>
                <a:ext cx="2722680" cy="636840"/>
                <a:chOff x="1172160" y="3094920"/>
                <a:chExt cx="2722680" cy="636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269000" y="309492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172160" y="309492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895200" y="3094920"/>
                <a:ext cx="2183040" cy="636840"/>
                <a:chOff x="3895200" y="3094920"/>
                <a:chExt cx="2183040" cy="636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992040" y="309492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95200" y="309492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078960" y="3094920"/>
                <a:ext cx="1375920" cy="636840"/>
                <a:chOff x="6078960" y="3094920"/>
                <a:chExt cx="1375920" cy="636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175800" y="309492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078960" y="30949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455240" y="3094920"/>
                <a:ext cx="1375920" cy="636840"/>
                <a:chOff x="7455240" y="3094920"/>
                <a:chExt cx="1375920" cy="636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551360" y="309492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55240" y="30949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87360" y="3732120"/>
                <a:ext cx="784440" cy="754560"/>
                <a:chOff x="387360" y="3732120"/>
                <a:chExt cx="784440" cy="754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84200" y="3732120"/>
                  <a:ext cx="5907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7360" y="3732120"/>
                  <a:ext cx="78444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172160" y="3732120"/>
                <a:ext cx="2722680" cy="754560"/>
                <a:chOff x="1172160" y="3732120"/>
                <a:chExt cx="2722680" cy="7545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269000" y="3732120"/>
                  <a:ext cx="25293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1 (wk 1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25 minutes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continuous running at 70-80%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72160" y="3732120"/>
                  <a:ext cx="27226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895200" y="3732120"/>
                <a:ext cx="2183040" cy="754560"/>
                <a:chOff x="3895200" y="3732120"/>
                <a:chExt cx="2183040" cy="75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92040" y="3732120"/>
                  <a:ext cx="19893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2 (wk 1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25 minute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fartlek sess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95200" y="3732120"/>
                  <a:ext cx="218304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078960" y="3732120"/>
                <a:ext cx="1375920" cy="754560"/>
                <a:chOff x="6078960" y="3732120"/>
                <a:chExt cx="1375920" cy="75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75800" y="3732120"/>
                  <a:ext cx="11822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3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078960" y="3732120"/>
                  <a:ext cx="13759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455240" y="3732120"/>
                <a:ext cx="1375920" cy="754560"/>
                <a:chOff x="7455240" y="3732120"/>
                <a:chExt cx="1375920" cy="7545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551360" y="3732120"/>
                  <a:ext cx="118260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455240" y="3732120"/>
                  <a:ext cx="13759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87360" y="4487040"/>
                <a:ext cx="784440" cy="636840"/>
                <a:chOff x="387360" y="4487040"/>
                <a:chExt cx="784440" cy="636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84200" y="448704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4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87360" y="448704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172160" y="4487040"/>
                <a:ext cx="2722680" cy="636840"/>
                <a:chOff x="1172160" y="4487040"/>
                <a:chExt cx="2722680" cy="636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269000" y="448704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3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72160" y="448704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95200" y="4487040"/>
                <a:ext cx="2183040" cy="636840"/>
                <a:chOff x="3895200" y="4487040"/>
                <a:chExt cx="2183040" cy="636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92040" y="448704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95200" y="448704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078960" y="4487040"/>
                <a:ext cx="1375920" cy="636840"/>
                <a:chOff x="6078960" y="4487040"/>
                <a:chExt cx="1375920" cy="636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175800" y="448704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78960" y="448704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455240" y="4487040"/>
                <a:ext cx="1375920" cy="636840"/>
                <a:chOff x="7455240" y="4487040"/>
                <a:chExt cx="1375920" cy="636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551360" y="448704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455240" y="448704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87360" y="5123880"/>
                <a:ext cx="784440" cy="872280"/>
                <a:chOff x="387360" y="5123880"/>
                <a:chExt cx="784440" cy="872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4200" y="5123880"/>
                  <a:ext cx="5907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5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87360" y="5123880"/>
                  <a:ext cx="78444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172160" y="5123880"/>
                <a:ext cx="2722680" cy="872280"/>
                <a:chOff x="1172160" y="5123880"/>
                <a:chExt cx="2722680" cy="872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269000" y="5123880"/>
                  <a:ext cx="25293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1 (wk 3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5 minute fartlek session </a:t>
                  </a: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(replace 1 walk with a jog and increase length of sprint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172160" y="5123880"/>
                  <a:ext cx="272268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895200" y="5123880"/>
                <a:ext cx="2183040" cy="872280"/>
                <a:chOff x="3895200" y="5123880"/>
                <a:chExt cx="2183040" cy="87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992040" y="5123880"/>
                  <a:ext cx="19893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2 (wk 3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5 minutes continuous running at </a:t>
                  </a: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75-85%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95200" y="5123880"/>
                  <a:ext cx="218304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78960" y="5123880"/>
                <a:ext cx="1375920" cy="872280"/>
                <a:chOff x="6078960" y="5123880"/>
                <a:chExt cx="1375920" cy="87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175800" y="5123880"/>
                  <a:ext cx="118224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78960" y="5123880"/>
                  <a:ext cx="13759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455240" y="5123880"/>
                <a:ext cx="1375920" cy="872280"/>
                <a:chOff x="7455240" y="5123880"/>
                <a:chExt cx="1375920" cy="872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551360" y="5123880"/>
                  <a:ext cx="11826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55240" y="5123880"/>
                  <a:ext cx="13759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87360" y="5996520"/>
                <a:ext cx="784440" cy="636840"/>
                <a:chOff x="387360" y="5996520"/>
                <a:chExt cx="784440" cy="636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4200" y="599652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6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7360" y="599652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172160" y="5996520"/>
                <a:ext cx="2722680" cy="636840"/>
                <a:chOff x="1172160" y="5996520"/>
                <a:chExt cx="2722680" cy="636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269000" y="599652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72160" y="599652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95200" y="5996520"/>
                <a:ext cx="2183040" cy="636840"/>
                <a:chOff x="3895200" y="5996520"/>
                <a:chExt cx="2183040" cy="636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92040" y="599652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95200" y="599652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078960" y="5996520"/>
                <a:ext cx="1375920" cy="636840"/>
                <a:chOff x="6078960" y="5996520"/>
                <a:chExt cx="1375920" cy="636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175800" y="599652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78960" y="59965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455240" y="5996520"/>
                <a:ext cx="1375920" cy="636840"/>
                <a:chOff x="7455240" y="5996520"/>
                <a:chExt cx="1375920" cy="636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551360" y="599652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455240" y="59965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"/>
            <p:cNvSpPr/>
            <p:nvPr/>
          </p:nvSpPr>
          <p:spPr>
            <a:xfrm>
              <a:off x="380880" y="1676520"/>
              <a:ext cx="8457840" cy="4960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programme of work considers progression and overload at weeks 3, 4 and 5.  At week 3 the duration is increased; at week 4 the frequency is increased and at week 5 the intensity is increas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ach session includes a small-sided game in order to ensure that skill related aspects of fitness continue to be develop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onitoring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t is vital that a training diary is maintained, when completing a programme of work, in order to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nsure prog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is is important, as the programme may need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odifi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..co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t is too easy it may need to be progressed more quickly to ensure improvements ar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f it is too difficult the work load may need to be reduced to avoid injury or over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ining Diary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)Work completed  ii)How player felt at end of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Evaluating 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-test using sam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mpare and contrast your result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ep Of the Body TEST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mework di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esday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Octo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ok over all notes and read through the course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hysical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Local Muscular Endu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Streng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Flexi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s</a:t>
            </a: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In pairs try to match up the definitions to the aspects of physical fi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ability to cover a distance in a short period of tim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ability of the whole body to work continuously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range of movement across a join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bility of muscles to work continuous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aximum amount of force a muscle or group of muscles can exert in a single eff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ombination of speed and steng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ich TWO physical aspects of fitness are most important for Hoc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RE and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ardio-Respiratory Endura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dio-Respiratory Enduranc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bility of the heart and lungs to supply the body with oxygen for a prolonged period of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bility for whole body to work for long period of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3:07:40Z</dcterms:created>
  <dc:creator>DooganS</dc:creator>
  <dc:description/>
  <dc:language>en-US</dc:language>
  <cp:lastModifiedBy>DooganS</cp:lastModifiedBy>
  <dcterms:modified xsi:type="dcterms:W3CDTF">2009-10-06T07:35:51Z</dcterms:modified>
  <cp:revision>43</cp:revision>
  <dc:subject/>
  <dc:title>Preparation Of The Body for hockey</dc:title>
</cp:coreProperties>
</file>